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9DAC-3202-4E02-8F71-430284286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FBB-8FE2-4DF2-8BF4-5E5042225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168-D8E4-48F0-A8C3-AB03BA47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883-A627-451F-9249-511FAE5E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19E-5155-40D8-9BDF-C6E30134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987-84EE-45B8-8AC4-2A883FDE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E19-E16C-4E33-9D9E-98F8A650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123-E66A-4618-AD8C-15A0E282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C5E-84C7-4D30-BC83-69C3D466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5A6-3E3A-4610-B266-ABCAE63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680-5FA3-454F-B0C0-13966CBA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953-5D51-4C4E-9437-28F11470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B04-F5E3-4AB5-989F-7BA359F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8E4-13EA-41D9-BED3-0001118E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669-2749-4EEE-B369-FE84089EE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985680" y="4241880"/>
            <a:ext cx="2281320" cy="85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3746520" y="3459240"/>
            <a:ext cx="1084320" cy="61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629160" y="51116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102280" y="55562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564240" y="516744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6778800" y="4307040"/>
            <a:ext cx="1298520" cy="52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083200" y="4649760"/>
            <a:ext cx="1197000" cy="42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447920" y="2163600"/>
            <a:ext cx="228096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611360" y="2230560"/>
            <a:ext cx="1763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ource (sentence where you saw the word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935520" y="3591000"/>
            <a:ext cx="769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OR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98720" y="4319640"/>
            <a:ext cx="971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22960" y="4713120"/>
            <a:ext cx="75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805200" y="5232240"/>
            <a:ext cx="1122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ord Famil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6929280" y="4394160"/>
            <a:ext cx="1017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art of Speec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929280" y="5232240"/>
            <a:ext cx="731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405400" y="5613480"/>
            <a:ext cx="881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rigi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741840" y="2946240"/>
            <a:ext cx="358560" cy="53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4401720" y="3022560"/>
            <a:ext cx="38916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724280" y="2570040"/>
            <a:ext cx="22813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5329080" y="174456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303880" y="362592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4862520" y="2668680"/>
            <a:ext cx="11858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fini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5556240" y="1820880"/>
            <a:ext cx="92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5632560" y="3713040"/>
            <a:ext cx="906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6084720" y="23605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6035760" y="3427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H="1">
            <a:off x="3271680" y="3921120"/>
            <a:ext cx="52560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692600" y="3976560"/>
            <a:ext cx="73044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935680" y="5104800"/>
            <a:ext cx="625320" cy="32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5713560" y="507528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6243480" y="462276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 flipH="1">
            <a:off x="4800240" y="5029200"/>
            <a:ext cx="2286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9:51Z</dcterms:created>
  <dc:creator>Kimberley Chandler</dc:creator>
  <dc:description/>
  <dc:language>en-US</dc:language>
  <cp:lastModifiedBy>Kimberley Chandler</cp:lastModifiedBy>
  <dcterms:modified xsi:type="dcterms:W3CDTF">2011-06-02T09:47:45Z</dcterms:modified>
  <cp:revision>3</cp:revision>
  <dc:subject/>
  <dc:title>Literature Web - Full Form</dc:title>
</cp:coreProperties>
</file>